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A98E-4A0A-4F0E-8E37-D6C55D46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2FD9-7C85-47C0-A6DC-92611290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EA73-EFB6-4F68-8AB1-66651D6C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BB47-0C76-47C5-BF0B-08EA0A9A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EDF8-E237-4AC5-BDCB-19C34ADD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03D6-5F1B-4657-B29A-21EEA36C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0C36-14C1-4C7D-B9D8-E51B0953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09B8-EAEC-4A7F-9835-74D94F49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EF2F-1B10-409C-AC9F-AA70265D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3AE0-B297-4AFA-888B-84E183E1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9A9B-55B8-42DF-B87B-57D83FBA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F4C7-91FC-47AF-9AED-CB3AB40A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C56F-A69A-46FF-9E3C-273B26D51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mechanicalmike.com/a4/LED_tails/images/left_LED_turn.JPG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www.newportri.com/_resources/common/images/userfiles/resized/Bike_400x549.jpg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media.mwcradio.com/mimesis/2011-09/13/Road%20Construction%203_jpg_475x310_q85.jpg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2.bp.blogspot.com/_LWXfO_9CJtc/RxZfWezwbOI/AAAAAAAABIU/1be0tclldhc/s400/IMG_9864.JPG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ine Levels of Driving 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Danny Moh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9: Getting in a Car Cr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666880" y="1995480"/>
            <a:ext cx="3810240" cy="2867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219320" y="5180760"/>
            <a:ext cx="67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3.bp.blogspot.com/_ytmmefaB3q4/SQA9x95NCrI/AAAAAAAAATk/TGin65zjnA4/s400/ferrari+car+crash+3.j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: Other Cars Not Using Turning Sign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0" y="2209680"/>
            <a:ext cx="4724280" cy="3141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14600" y="5576040"/>
            <a:ext cx="434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mechanicalmike.com/a4/LED_tails/images/left_LED_turn.JPG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: Just Missing an Orange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76720" y="1981080"/>
            <a:ext cx="25146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: Driving Behind Bik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76720" y="1905120"/>
            <a:ext cx="2682720" cy="3681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81080" y="5714280"/>
            <a:ext cx="525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newportri.com/_resources/common/images/userfiles/resized/Bike_400x549.jpg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: Other Drivers Unknowingly Using High Beam Headligh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09680" y="207648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5790600"/>
            <a:ext cx="563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4.ac-images.myspacecdn.com/images02/102/l_21faddfcb5b147cc9a7a3311b68af5ab.j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: Driving with Construction on Major Ro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48120" y="25146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76520" y="5028480"/>
            <a:ext cx="601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edia.mwcradio.com/mimesis/2011-09/13/Road%20Construction%203_jpg_475x310_q85.jpg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: Getting Cut 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66880" y="2157480"/>
            <a:ext cx="3810240" cy="2543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47920" y="4799880"/>
            <a:ext cx="617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2.bp.blogspot.com/_LWXfO_9CJtc/RxZfWezwbOI/AAAAAAAABIU/1be0tclldhc/s400/IMG_9864.JPG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7: Getting a Speeding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19560" y="21765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43200" y="472356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johnux.com/wp-content/uploads/2010/04/traffic-school.gi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8: Running out of 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190600" y="2000160"/>
            <a:ext cx="4762800" cy="2857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14600" y="518076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blu.stb.s-msn.com/i/45/51DE276A6546A4D235AEC225BD0DB.j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1:17:10Z</dcterms:created>
  <dc:creator>Danny-pc</dc:creator>
  <dc:description/>
  <dc:language>en-US</dc:language>
  <cp:lastModifiedBy>Danny-pc</cp:lastModifiedBy>
  <dcterms:modified xsi:type="dcterms:W3CDTF">2011-09-14T01:49:23Z</dcterms:modified>
  <cp:revision>4</cp:revision>
  <dc:subject/>
  <dc:title>The Nine Levels of Driving Hell</dc:title>
</cp:coreProperties>
</file>